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8C5-9384-4FC6-B0C5-3D046013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7F5-32D3-4D58-A01B-97712DF0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A6A-149E-4E5F-8A34-B77CD64A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316-2FE9-4C73-8862-778E41E3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077-45B7-43EC-BD6F-704D7B75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2AD-3BD7-474B-9EE4-4B8E9FA2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BF9-5ABD-441F-81A2-FE71B213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879-FF46-447E-AA4C-AE1D8F6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1CF-B038-4558-B9E3-C8F7924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994-D692-40F2-8C3F-E67BB9B7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4D1-F44A-46D9-8CE8-673CF1B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943-7255-4CD9-BE44-32F0C73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1Stone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899E-6561-427B-AC2C-F591582349F8}" type="slidenum">
              <a:rPr b="0" lang="en-US" sz="1400" spc="-1" strike="noStrike">
                <a:solidFill>
                  <a:srgbClr val="ffffff"/>
                </a:solidFill>
                <a:latin typeface="1Stone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527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272800" y="64771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cilia"/>
          <p:cNvPicPr/>
          <p:nvPr/>
        </p:nvPicPr>
        <p:blipFill>
          <a:blip r:embed="rId1"/>
          <a:stretch/>
        </p:blipFill>
        <p:spPr>
          <a:xfrm>
            <a:off x="609480" y="1905120"/>
            <a:ext cx="2114640" cy="31431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4120" y="609480"/>
            <a:ext cx="3200040" cy="4343400"/>
            <a:chOff x="5334120" y="609480"/>
            <a:chExt cx="3200040" cy="4343400"/>
          </a:xfrm>
        </p:grpSpPr>
        <p:sp>
          <p:nvSpPr>
            <p:cNvPr id="62" name="Rectangle 8"/>
            <p:cNvSpPr/>
            <p:nvPr/>
          </p:nvSpPr>
          <p:spPr>
            <a:xfrm>
              <a:off x="5334120" y="609480"/>
              <a:ext cx="3134880" cy="434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Picture 9" descr="lungs5c"/>
            <p:cNvPicPr/>
            <p:nvPr/>
          </p:nvPicPr>
          <p:blipFill>
            <a:blip r:embed="rId2"/>
            <a:stretch/>
          </p:blipFill>
          <p:spPr>
            <a:xfrm>
              <a:off x="5335560" y="609480"/>
              <a:ext cx="3198600" cy="427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10"/>
          <p:cNvGrpSpPr/>
          <p:nvPr/>
        </p:nvGrpSpPr>
        <p:grpSpPr>
          <a:xfrm>
            <a:off x="1828800" y="3200400"/>
            <a:ext cx="5982480" cy="3222720"/>
            <a:chOff x="1828800" y="3200400"/>
            <a:chExt cx="5982480" cy="3222720"/>
          </a:xfrm>
        </p:grpSpPr>
        <p:grpSp>
          <p:nvGrpSpPr>
            <p:cNvPr id="65" name="Group 11"/>
            <p:cNvGrpSpPr/>
            <p:nvPr/>
          </p:nvGrpSpPr>
          <p:grpSpPr>
            <a:xfrm>
              <a:off x="2987640" y="3200400"/>
              <a:ext cx="4823640" cy="3222720"/>
              <a:chOff x="2987640" y="3200400"/>
              <a:chExt cx="4823640" cy="3222720"/>
            </a:xfrm>
          </p:grpSpPr>
          <p:pic>
            <p:nvPicPr>
              <p:cNvPr id="66" name="Picture 12" descr="AlveoliDrawing"/>
              <p:cNvPicPr/>
              <p:nvPr/>
            </p:nvPicPr>
            <p:blipFill>
              <a:blip r:embed="rId3"/>
              <a:stretch/>
            </p:blipFill>
            <p:spPr>
              <a:xfrm>
                <a:off x="2987640" y="3200400"/>
                <a:ext cx="2629080" cy="322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" name="Group 13"/>
              <p:cNvGrpSpPr/>
              <p:nvPr/>
            </p:nvGrpSpPr>
            <p:grpSpPr>
              <a:xfrm>
                <a:off x="5502240" y="4670280"/>
                <a:ext cx="2309040" cy="882360"/>
                <a:chOff x="5502240" y="4670280"/>
                <a:chExt cx="2309040" cy="882360"/>
              </a:xfrm>
            </p:grpSpPr>
            <p:sp>
              <p:nvSpPr>
                <p:cNvPr id="68" name="Text Box 14"/>
                <p:cNvSpPr/>
                <p:nvPr/>
              </p:nvSpPr>
              <p:spPr>
                <a:xfrm>
                  <a:off x="6095880" y="5092920"/>
                  <a:ext cx="1715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lveolar sa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15"/>
                <p:cNvSpPr/>
                <p:nvPr/>
              </p:nvSpPr>
              <p:spPr>
                <a:xfrm flipH="1">
                  <a:off x="5654880" y="5356440"/>
                  <a:ext cx="38088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16"/>
                <p:cNvSpPr/>
                <p:nvPr/>
              </p:nvSpPr>
              <p:spPr>
                <a:xfrm flipH="1" flipV="1">
                  <a:off x="5502240" y="4670280"/>
                  <a:ext cx="533520" cy="609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Text Box 17"/>
            <p:cNvSpPr/>
            <p:nvPr/>
          </p:nvSpPr>
          <p:spPr>
            <a:xfrm>
              <a:off x="1828800" y="57787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lveol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18"/>
            <p:cNvSpPr/>
            <p:nvPr/>
          </p:nvSpPr>
          <p:spPr>
            <a:xfrm flipV="1">
              <a:off x="2911680" y="6041880"/>
              <a:ext cx="182880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19"/>
            <p:cNvSpPr/>
            <p:nvPr/>
          </p:nvSpPr>
          <p:spPr>
            <a:xfrm flipV="1">
              <a:off x="2911680" y="5585040"/>
              <a:ext cx="160020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Epitheliu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 gases to exchange efficientl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veoli walls must be very thin (&lt; 1 </a:t>
            </a: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µ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rface area must be very great (about 35 times the surface area of the body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ory Mucos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epithelial lay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areolar lay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nes conducting portion of respiratory system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Lamina Propri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nderlies areolar tissu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 the upper respiratory system, trachea, and bronchi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ains mucous glands that secrete onto epithelial surfa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35053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 the conducting portion of lower respiratory syst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ains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smooth muscle cell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that encircle lumen of bronchi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How are delicate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respiratory exchange surfaces protected from pathogens, debris, and other hazards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ory Defense System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 a series of filtration mechanis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moves particles and pathoge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mponents of 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ory Defense System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(1 of 2)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Goblet cell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mucous gland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duce mucus that bathes exposed surfac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Cilia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weep debris trapped in mucus toward the pharynx (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mucus escalator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mponents of 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ory Defense System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(2 of 2)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Filtrat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in nasal cavity removes large particl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Alveolar macrophag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engulf small particles that reach lungs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are the organs of the upper respiratory system and their functions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Upper 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1644480" y="914400"/>
            <a:ext cx="5594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00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are the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primary functions of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the respiratory system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Nose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ir enters the respiratory system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rough nostrils or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external nar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to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nasal vestibu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Nasal hair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in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nasal vestibu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the first particle filtration syste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Nasal Cavit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nasal septum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vides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nasal cavity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into left and righ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cous secretions from paranasal sinus and tear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ean and moisten the nasal cavi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perior portion of nasal cavity is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olfactory reg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vides sense of smel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ir Flow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rom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vestibul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to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internal nar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rough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superior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middle,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inferior meatus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57600" y="1143000"/>
            <a:ext cx="5164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1430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Meatus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tricted passageways that produce air turbulence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arm and humidify incoming ai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p particl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114800" y="1143000"/>
            <a:ext cx="4589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Palat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86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Hard palat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ms floor of nasal cavi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parates nasal and oral cavit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Soft palat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tends posterior to hard palat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vides superior nasopharynx from lower pharynx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038480" y="1143000"/>
            <a:ext cx="451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600" spc="-1" strike="noStrike">
                <a:solidFill>
                  <a:srgbClr val="ffea18"/>
                </a:solidFill>
                <a:latin typeface="Trebuchet MS"/>
              </a:rPr>
              <a:t>Nasal Mucosa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733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arm and humidify inhaled air for arrival at lower respiratory organs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eathing through mouth bypasses this important step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13320" y="609480"/>
            <a:ext cx="537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Ph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 chamber shared by digestive and respiratory syste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tends from internal nares to entrances to larynx and esophagu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195800" y="838080"/>
            <a:ext cx="4948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Divisions of the Ph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Naso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Oro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aryngo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600" spc="-1" strike="noStrike">
                <a:solidFill>
                  <a:srgbClr val="ffea18"/>
                </a:solidFill>
                <a:latin typeface="Trebuchet MS"/>
              </a:rPr>
              <a:t>Nasopharynx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perior portion of the 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tains pharyngeal tonsils and openings to left and right auditory tub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338720" y="1143000"/>
            <a:ext cx="4805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Oroph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iddle portion of the 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municates with oral cavit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141800" y="1219320"/>
            <a:ext cx="4805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Oxyge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obtained from the air by diffusion across delicate exchange surfaces of lung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carried to cells by the cardiovascular system which also returns carbon dioxide to the lungs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600" spc="-1" strike="noStrike">
                <a:solidFill>
                  <a:srgbClr val="ffea18"/>
                </a:solidFill>
                <a:latin typeface="Trebuchet MS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ferior portion of the 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tends from hyoid bone to entrance to larynx and esophagus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038480" y="1219320"/>
            <a:ext cx="4948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is the structure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of the larynx and it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role in normal breathing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and production of sound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natomy of the L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rcRect l="7087" t="19471" r="7068" b="11110"/>
          <a:stretch/>
        </p:blipFill>
        <p:spPr>
          <a:xfrm>
            <a:off x="304920" y="990720"/>
            <a:ext cx="8534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-22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artilages of the L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3 large, unpaired cartilages form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arynx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thyroid cartilag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cricoid cartilag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epiglotti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267080" y="1143000"/>
            <a:ext cx="437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Thyroid Cartilage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the Adam’s app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a hyaline cartil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ms anterior and lateral walls of l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gaments attach to hyoid bone, epiglottis, and laryngeal cartilag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800600" y="1219320"/>
            <a:ext cx="4186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600" spc="-1" strike="noStrike">
                <a:solidFill>
                  <a:srgbClr val="ffea18"/>
                </a:solidFill>
                <a:latin typeface="Trebuchet MS"/>
              </a:rPr>
              <a:t>Cricoid Cartilag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a hyaline cartil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m posterior portion of l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gaments attach to first tracheal cartil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rticulates with arytenoid cartilag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191120" y="457200"/>
            <a:ext cx="4686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Epiglotti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posed of elastic cartil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gaments attach to thyroid cartilage and hyoid bo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3886200" y="762120"/>
            <a:ext cx="4749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artilage Function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events entry of food and liquids into respiratory trac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uring swallowing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larynx is elevat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piglottis folds back over glotti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yroid and cricoid cartilages support and protect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glotti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ntrance to trache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Glotti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rcRect l="4939" t="33354" r="4920" b="24992"/>
          <a:stretch/>
        </p:blipFill>
        <p:spPr>
          <a:xfrm>
            <a:off x="152280" y="1311120"/>
            <a:ext cx="89154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ound Produc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ir passing through glotti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ibrates vocal fold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duces sound wav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2514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ound Vari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38862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und is vari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ension on vocal f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oluntary muscles (position arytenoid cartilage relative to thyroid cartilag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5 Functions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vides extensive gas exchange surface area between air and circulating bloo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ves air to and from exchange surfaces of lung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peech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produced b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phonation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ound production at the larynx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rticulation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odification of sound by other structur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is the structure of airways outside the lungs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natomy of the Trache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533520" y="914400"/>
            <a:ext cx="76960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Trachea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the windpip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tends from the cricoid cartilage into mediastinum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ere it branches into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left pulmonary bronchi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3429000" y="1143000"/>
            <a:ext cx="556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Tracheal Cartilages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15–20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racheal cartilag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rengthen and protect airw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continuous where trachea contacts esophagu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s of each tracheal cartilage are connected b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elastic ligament and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trachealis musc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Primary Bronchi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eft primary bronchi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parated by an internal ridge (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carin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ight Primary Bronchus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4290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larger in diameter than the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ends at a steep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Hilu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pulmonary nerves, blood vessels, and lymphatics enter lu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nchored in meshwork of connective tissu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tructure of Primary Bronch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primary bronch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vels to a groove (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hilu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 along medial surface of the l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are the superficial anatomy of the lungs, the structure of a pulmonary lobule, and the functional anatomy of the alveoli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Gross Anatomy of the Lung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Lung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886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ef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right lung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in left and right pleural cavit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bas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ferior portion of each lung rests on superior surface of diaphrag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5 Functions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tects respiratory surfaces from outside environ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duces sounds-speaking, sing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articipates in olfactory sens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ight Lung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s 3 lobes: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perior, middle, and inferio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parated by horizontal and oblique fissur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Left Lung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s 2 lobes: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perior and inferio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separated by an oblique fiss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lationship between Lungs and Hear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rcRect l="7087" t="23634" r="5994" b="16662"/>
          <a:stretch/>
        </p:blipFill>
        <p:spPr>
          <a:xfrm>
            <a:off x="228600" y="1295280"/>
            <a:ext cx="87631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Lung Shap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ight lung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wider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displaced upward by liv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6212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eft lu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long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displaced leftward by the heart forming 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cardiac notch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ronchial Tre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formed by the primary bronchi and their branch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8580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Extrapulmonary Bronch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3124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ef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right bronchi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branches outside the lu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76212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Intrapulmonary Bronch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49528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nches within the lu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 Primary Bronchu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nches to form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secondary bronchi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(lobar bronch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1 secondary bronchus goes to 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ob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Bronchi and Lobu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210492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econdary Bronchi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nch to form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ertiary bronchi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segmental bronch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segmental bronchu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pplies air to a singl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bronchopulmonary segm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ronchial Structur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walls of primary, secondary, and tertiary bronchi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 progressively less cartilage and more smooth musc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creasing muscular effects on airway constriction and resistance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16232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ronchitis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flammation of bronchial wall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uses constriction and breathing difficul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mponents of the 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rcRect l="15303" t="23164" r="16662" b="21040"/>
          <a:stretch/>
        </p:blipFill>
        <p:spPr>
          <a:xfrm>
            <a:off x="1600200" y="990720"/>
            <a:ext cx="5529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Bronchio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rcRect l="9945" t="27469" r="6309" b="20447"/>
          <a:stretch/>
        </p:blipFill>
        <p:spPr>
          <a:xfrm>
            <a:off x="152280" y="1295280"/>
            <a:ext cx="8915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Bronchiole Structur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onchiole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ave no cartilag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dominated by smooth muscl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utonomic 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403848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gulates smooth mus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ols diameter of bronchi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ols airflow and resistance in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ronchodil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lation of bronchial airway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used by sympathetic ANS activation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duces resistance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1981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ronchoconstriction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274320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tricts bronch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used b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rasympathetic ANS act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istamine release (allergic reac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4648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Asthm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cessive stimulation and bronchoconstri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imulation severely restricts air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rabecula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brous connective tissue partitions from root of lu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tain supportive tissues and lymphatic vessel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nch repeatedl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vide lobes into increasingly smaller compartmen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4419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Pulmonary Lobu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51055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re the smallest compartments of the 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re divided by the smallest trabecular partitions (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interlobular septa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urfaces of the Lung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erminal bronchiol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delivers air to a singl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ulmonary lobu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ulmonary lobul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is supplied by pulmonary arteries and vei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3657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Exchange Surfa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0" y="43434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in the lobu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terminal bronchio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branches to form several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respiratory bronchiole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, where gas exchange takes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Bronchio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ertiary bronchu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branches into multipl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bronchiol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onchioles branch into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erminal bronchioles: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1 tertiary bronchus forms about 6500 terminal bronchiol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lveolar Organiz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1600200" y="83808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lveolar Organization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spiratory bronchioles are connected to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i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long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ar duc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ar duct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end at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ar sacs: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mon chambers connected to many individual alveol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0948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n Alveolu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s an extensive network of capillari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surrounded by elastic fibers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8580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lveolar Epithelium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352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sists of simple squamous epitheliu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sists of thin, delicate 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Type I cell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atrolled by 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alveolar macrophages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also called dust cell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s 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septal cells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Type II cells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 that produce 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733920" y="1209600"/>
            <a:ext cx="5410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Organization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respiratory system is divided into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upper respiratory system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, above the larynx, and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ower respiratory system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, from the larynx dow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Surfactant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an oily secre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ains phospholipids and protei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ats alveolar surfaces and reduces surface tens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886200" y="533520"/>
            <a:ext cx="52578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Membran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thin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membran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of alveoli where gas exchange takes place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2590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3 Parts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Membran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373392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quamous epithelial lining of alveo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othelial cells lining an adjacent capil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used basal laminae between alveolar and endothelial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nflammation of Lobules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neumonia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uses fluid to leak into alveoli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mpromises function of respiratory membra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leural Cavities and Pleural Membran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rcRect l="6013" t="22244" r="5994" b="16662"/>
          <a:stretch/>
        </p:blipFill>
        <p:spPr>
          <a:xfrm>
            <a:off x="76320" y="1447920"/>
            <a:ext cx="8839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leural Cavities 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leural Membran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2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leural caviti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separated by the mediastinu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pleural cavit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lds a lung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lined with a serous membrane (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pleur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Pleura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 2 layers: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parietal pleur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visceral pleur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leural fluid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ubricates space between 2 laye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ers to 2 integrated processes: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external respir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internal respir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External Respi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0" y="29718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cludes all processes involved in exchanging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with the environ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6094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Internal Respi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0" y="46483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cellular re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volves the uptake of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production of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within individual ce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3 Processes of </a:t>
            </a:r>
            <a:br>
              <a:rPr sz="4000"/>
            </a:b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External Respiration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ulmonary ventilat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(breathing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Gas diffus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cross membranes and capillar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ransport of O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 and CO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tween alveolar capill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tween capillary beds in other t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ulmonary Ventil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403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the physical movement of air in and out of respiratory tra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vides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alveolar ventil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5335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physical principles govern the movement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of air into the lung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Gas Pressure and Volum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7" descr=""/>
          <p:cNvPicPr/>
          <p:nvPr/>
        </p:nvPicPr>
        <p:blipFill>
          <a:blip r:embed="rId1"/>
          <a:srcRect l="28719" t="26857" r="28695" b="20799"/>
          <a:stretch/>
        </p:blipFill>
        <p:spPr>
          <a:xfrm>
            <a:off x="1523880" y="990720"/>
            <a:ext cx="60962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Trac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 a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conducting port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om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nasal cavity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to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terminal bronchiol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 a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respiratory port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respiratory bronchiole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i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- Are air-filled pockets within the lung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here all gas exchange takes plac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Atmospheric Pressur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weight of air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as several important physiological effect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oyle’s Law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fines the relationship between gas pressure and volum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s volume decreases, pressure in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 a contained g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ternal pressure forces molecules closer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ovement of gas molecules exerts pressure on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Mechanisms of Pulmonary Ventil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Picture 9" descr=""/>
          <p:cNvPicPr/>
          <p:nvPr/>
        </p:nvPicPr>
        <p:blipFill>
          <a:blip r:embed="rId1"/>
          <a:srcRect l="15303" t="16722" r="12499" b="13524"/>
          <a:stretch/>
        </p:blipFill>
        <p:spPr>
          <a:xfrm>
            <a:off x="1812960" y="762120"/>
            <a:ext cx="48164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uses volume changes that create changes in pressur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olume of thoracic cavity change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ith expansion or contraction of diaphragm or rib cag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7737480" y="64436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a,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Musc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1"/>
          <a:srcRect l="11382" t="25023" r="5994" b="16662"/>
          <a:stretch/>
        </p:blipFill>
        <p:spPr>
          <a:xfrm>
            <a:off x="304920" y="990720"/>
            <a:ext cx="876276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Musc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7742160" y="6443640"/>
            <a:ext cx="13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c,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1"/>
          <a:srcRect l="2792" t="19471" r="2773" b="13889"/>
          <a:stretch/>
        </p:blipFill>
        <p:spPr>
          <a:xfrm>
            <a:off x="152280" y="1143000"/>
            <a:ext cx="899172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3 Muscle Groups of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Inhalation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Diaphragm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action draws air into lung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75% of normal air movem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External intracostal musc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ssist inha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25% of normal air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Accessory muscl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ssist in elevating rib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ernocleidomast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rratus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ectoralis min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calene mus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hanges in Respirator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ystem at Birth (1 of 5)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birth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ulmonary vessels are collaps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ungs contain no ai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266688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uring delive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ts val="3798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cental connection is 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ts val="3798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lood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800" spc="-1" strike="noStrike" baseline="-67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a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ts val="3798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rebuchet MS"/>
              </a:rPr>
              <a:t>CO</a:t>
            </a:r>
            <a:r>
              <a:rPr b="0" lang="en-US" sz="2800" spc="-1" strike="noStrike" baseline="-67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0" y="49528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t bir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wborn overcomes force of surface tension to inflate bronchial tree and alveoli and take first br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hanges in Respirator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ystem at Birth (4 of 5)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arge drop in pressure at first breath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ulls blood into pulmonary circul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osing foramen ovale and ductus arteriosu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directing fetal blood circulation pattern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3809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bsequent breath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ully inflate alve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Performance and Ag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rcRect l="18459" t="24430" r="19079" b="16692"/>
          <a:stretch/>
        </p:blipFill>
        <p:spPr>
          <a:xfrm>
            <a:off x="685800" y="990720"/>
            <a:ext cx="75438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3 Effects of Aging on the Respiratory System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lastic tissues deteriorate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ducing lung complian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owering vital capaci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rthritic chan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strict chest mo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mit respiratory minute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4267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mphyse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ffects individuals over age 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epending on exposure to respiratory irritants (</a:t>
            </a: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cigarette sm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Epitheliu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272800" y="64771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14598" t="16692" r="14579" b="12499"/>
          <a:stretch/>
        </p:blipFill>
        <p:spPr>
          <a:xfrm>
            <a:off x="685800" y="99072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7:03:19Z</dcterms:created>
  <dc:creator>Trial User</dc:creator>
  <dc:description/>
  <dc:language>en-US</dc:language>
  <cp:lastModifiedBy>Lyn Clarkson</cp:lastModifiedBy>
  <cp:lastPrinted>2005-05-04T05:48:12Z</cp:lastPrinted>
  <dcterms:modified xsi:type="dcterms:W3CDTF">2008-10-28T02:37:37Z</dcterms:modified>
  <cp:revision>153</cp:revision>
  <dc:subject/>
  <dc:title>Chapter 23: The  Respiratory System</dc:title>
</cp:coreProperties>
</file>